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21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8.wmf" ContentType="image/x-wmf"/>
  <Override PartName="/ppt/media/image20.wmf" ContentType="image/x-wmf"/>
  <Override PartName="/ppt/media/image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7A25C-0F60-44C1-A456-18DCAC6875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8A66D-FAE9-4794-9015-5D756057A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871D6-11A5-4EB1-8257-C026BF71C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DFF8C-82BF-49C5-A6C2-D378EDBC1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16FE5-5831-4AE8-BD98-D8E9CB4F2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26A03-AFE1-4C82-8E81-800372DD0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EB9E0-35D8-44FD-8DE7-3648D2CBC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590CF-94FD-4A38-B2E2-0C06FCC08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CA5F8-4272-4627-A748-C61F2EF84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0A7E-0673-4D1A-B84B-79C53C45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903C-5813-4D77-B98B-89DE1127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5C203-F0A5-41A7-9FC5-CBA17647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C2955-4D1F-4264-998E-EF63171E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5E366-CB23-4C14-BB2B-84761C8C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55509-3652-4C86-8326-5A7E53CC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EEF83-9D76-4F19-AA35-C74CBED9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0D9DB-4F13-41D5-BA1A-30E2AD14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339DA-D5C0-4ECC-96B3-8B4ECC8D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A7BDD-EB38-48F1-8E47-9B014DE3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3C28D-CEDC-4114-B1E4-871E577D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2CF74-2878-435D-892E-CDD32CB8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9E1-D3BC-40B5-A870-CE59E6D1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501C1-388E-45D0-A073-30207BA0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87314-6810-4E76-A396-53975EA0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608DF-AB39-4962-8711-1692CD6F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BA066-6704-459F-A0E9-32EA59F2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8C9F3-87FF-4C25-B3E6-F723B6D8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8B229-47AE-4408-A7F3-AF9A6AAA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3853C-7317-4B44-8877-2E89197D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4517B-3F04-4E86-8934-F3BF3BA9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0CDAF-9DAD-4A0E-BB6A-26D2E67E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8BDDA-07E5-411B-B172-F1491AB2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AB77-1C75-4D5C-91C5-4858645D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9E332-052D-48CB-956A-8A6B7458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9C748-21D7-4A36-8E4F-6BC01401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3D06F-3099-4389-A1BD-635A1A5A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FF04F-B7C1-41FA-951D-C872F145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6C9C0-FDB0-414C-B940-059BD434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770A2-456F-4B10-9A21-A342124B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DA44B-F5FD-43B4-9C47-C694D830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C0E8F-72CD-4355-9EE2-C57F646D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A85-E4E0-4799-9F8A-20A56FC7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65AE6-55E3-4DB3-996D-7567D7E5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75E17-3DE8-415D-BC03-3FC0D4D6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95AF8-CFE0-47D9-8861-998568DC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FD67B-6C27-4DFC-B1FD-3D781232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09F3F-7A39-4E5E-AE4D-65E1C9E4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1A88D-E7E8-48FB-A259-FE04D800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EF047-63F0-4555-A3B4-937EF986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ED92E-E9F4-4E7A-93B3-7364C56B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9BE30-B2FE-44E3-B2A7-26763539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B13C2-FF21-4245-95AB-8865DB92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A4E-C692-4D3E-822D-5FD3BCF8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7D3B5-5218-4DCD-A4D9-AC251AF7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83647-0F37-490C-A4DF-76AD2FE2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4280E-8EBE-4E18-8711-88453543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DB1EC-15CC-44AD-A5CE-876D2F0A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47955-22F1-46B4-AAA2-426A96DF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D7E58-F3E4-486B-903A-6EECE01E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989BE-7A28-4304-BD85-F9B4E557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0B4BF-27D8-4397-A9CB-1E3D0344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D947E-E7F2-4D66-89E7-188B5880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5F0BD-7143-4768-A4ED-E855E2F2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ED9-4580-43D2-8C7F-71E34293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E4A69-B5A7-4B5D-BFE3-879B924A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D7AA1-4327-461B-A1BD-3EA2C54F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70ADD-6863-4821-BC69-8C52D849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D6E7C-2D10-464D-952A-0BBC2B0D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33F0D-D8E0-4AE4-9041-ED6E83A1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1A217-E4DE-4E56-B9F9-EA388E90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4E725-6AC4-43AF-AB8B-71B28DFD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309F1-8FEE-484E-9537-45ADF3E8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62ABE-73CE-4845-B096-622B88C3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4C674-2A13-4AAE-B795-9CDBFCB1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F1D-7B27-4AC5-8848-506751E9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00C0C-6559-48B2-B438-96071083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4AB33-DDF5-4792-8368-0F68A942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E7C57-84E0-4CAD-8307-7DE37888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FCB09-4FDD-4F2D-A52E-A7D06436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7B713-2C79-407F-AD82-FA011CC8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FE451-D63F-443E-97D5-26980D23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AF0C5-3D55-4923-8850-9E77F02B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8336C-494B-4A82-887A-5864E5D3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CFA79-FD54-4739-A2EB-D6787AF7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E7384-4C88-4CCA-A2CF-3D98DB8C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13CE-2674-415B-B20B-827FBA51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5090B-2E9A-4C78-BD85-08C024CD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33D5E-AE4A-4C50-A4B4-31674A58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373FF-94E4-44E4-A08E-C01233D7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209EC-3790-4B0F-8A17-2F3D81C5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EDCA5-8776-4D57-9259-409D8428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285D3-EC7C-4752-86BA-81629D76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A4510-3E7B-4C3E-9288-4E37EDBA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8E503-E7DC-4EFE-B6D7-FF513186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B0CFF-1B2D-4653-8A08-EA1EB69D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2939C-22E7-4AD7-A151-732D7F95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1430-998C-4CED-AF21-0FFB38BD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07F0D-BF8E-460C-9529-BA6E16C3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D080A-E0AC-4A2E-9F26-AEEA7BF0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5C067-FE52-45BE-824A-80F1D6C0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8FA62-B890-408D-A2EE-3D3826DF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2F31F-4A74-4856-840F-302597B5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34C82-3D02-4197-B1D9-28E13041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C23C8-4F1F-40FB-8339-8AAAE994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2580B-1230-4405-A4BB-878C583E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EC26F-737F-49EF-A7ED-4D2AE1E0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740B8-23AB-4F33-BF3D-0123613F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D57-A100-4281-9CBB-55FA5285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4E6AA-F210-4B6E-94D8-FCB25CE1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03524-3416-4DED-AA4E-8A27878F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D17A4-02C2-4B07-A276-7C38124A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6097A-9603-4CBD-9C6E-B6D141CD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6BF98-BF25-439D-AB0B-232E4303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26061-A887-4E43-97BA-28A32DB0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EE381-EDBB-4D64-B351-1507C295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9851D-3127-4D3A-97F9-0AF18A87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84E22-366B-498B-8F05-A03C48FE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39170-DCFF-4483-A3CF-6F91A6D6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D995-55B9-42CF-B105-139A92B5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E8DAE-141D-496C-BB0B-1E792D12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7A3F3-4F61-40DF-A8F4-6CEA3B92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BF014-581D-4524-87B7-BAF6F48E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65E12-B409-4034-9BD6-3AC81669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DB184-03A1-4A22-AF44-BF79ED90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44825-E779-405B-B56C-6F195B98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36D02-1D49-48F0-91AD-03602721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6C4A4-5547-41BD-A0BF-FBD45CFB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3A3A6-283A-47C5-A8A3-FF5841CE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91D8B-86D5-4242-BD5F-9B2E404B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4BF8B-9B9A-4796-98B5-4A30DEC119C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8739D-96E4-4C5A-BE04-8204FB456D9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57BEF-5547-461B-95D0-95E5FEC2AEC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DCBED-1020-4A76-8750-962D212BCDE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3ECE6-D08D-4EE3-AEDB-C59B64B6BFBE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25A4A-6A09-4DD8-99AA-FB45BC48A9F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3CD09-1EE6-49C1-8DFA-DA954512BCB5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DC23C-3A14-4219-8E80-FE2C1F9E39C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4E0908-FA86-42AD-A3CB-11644F9CEAF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ED197-532C-42D0-BFB1-19C7E2EEF36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E3CE1-5EBD-41FD-AEE5-29282FD131A5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09A9D-A2C7-4E4E-B091-353FD4C843A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5115F-10EC-47C5-B136-01945F17150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FF261-92AA-482F-A564-4AA2968E551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9E907-9606-437A-96CB-394CB1C17C7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6B03D-D0E2-41E5-964D-A84C0556DC9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E1E2F-7F6B-472A-AA92-46E373114AA3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2EE34-229B-475D-B620-9B742F88946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wmf"/><Relationship Id="rId3" Type="http://schemas.openxmlformats.org/officeDocument/2006/relationships/slide" Target="slide6.xml"/><Relationship Id="rId4" Type="http://schemas.openxmlformats.org/officeDocument/2006/relationships/image" Target="../media/image7.png"/><Relationship Id="rId5" Type="http://schemas.openxmlformats.org/officeDocument/2006/relationships/slide" Target="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6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5 Themes of Geography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79940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sto MT"/>
              </a:rPr>
              <a:t>World History I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efab16"/>
                </a:solidFill>
                <a:latin typeface="Tahoma"/>
              </a:rPr>
              <a:t>Theme 4: Locat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114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Where is It?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Why is It There?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99" name="Picture 4" descr="bd06663_"/>
          <p:cNvPicPr/>
          <p:nvPr/>
        </p:nvPicPr>
        <p:blipFill>
          <a:blip r:embed="rId1"/>
          <a:stretch/>
        </p:blipFill>
        <p:spPr>
          <a:xfrm>
            <a:off x="685800" y="3657600"/>
            <a:ext cx="2286000" cy="198288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6"/>
          <p:cNvSpPr/>
          <p:nvPr/>
        </p:nvSpPr>
        <p:spPr>
          <a:xfrm>
            <a:off x="5257800" y="1752480"/>
            <a:ext cx="33526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Two Types of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efab16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fab16"/>
                </a:solidFill>
                <a:latin typeface="Tahoma"/>
              </a:rPr>
              <a:t>Abso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efab16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fab16"/>
                </a:solidFill>
                <a:latin typeface="Tahoma"/>
              </a:rPr>
              <a:t>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3657600" y="4191120"/>
          <a:ext cx="5029200" cy="231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4191120"/>
                    <a:ext cx="5029200" cy="2313000"/>
                  </a:xfrm>
                  <a:prstGeom prst="rect">
                    <a:avLst/>
                  </a:prstGeom>
                  <a:ln w="76320">
                    <a:solidFill>
                      <a:srgbClr val="efab1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ff"/>
                </a:solidFill>
                <a:latin typeface="Tahoma"/>
              </a:rPr>
              <a:t>Absolute Locat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ahoma"/>
              </a:rPr>
              <a:t>A specific place on the Earth’s surface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ahoma"/>
              </a:rPr>
              <a:t>Uses a grid system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ahoma"/>
              </a:rPr>
              <a:t>Latitude and longitude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ahoma"/>
              </a:rPr>
              <a:t>A global address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505" name="Picture 4" descr="bd06662_"/>
          <p:cNvPicPr/>
          <p:nvPr/>
        </p:nvPicPr>
        <p:blipFill>
          <a:blip r:embed="rId1"/>
          <a:stretch/>
        </p:blipFill>
        <p:spPr>
          <a:xfrm>
            <a:off x="1371600" y="4267080"/>
            <a:ext cx="1793880" cy="2057400"/>
          </a:xfrm>
          <a:prstGeom prst="rect">
            <a:avLst/>
          </a:prstGeom>
          <a:ln w="9360">
            <a:solidFill>
              <a:srgbClr val="efab16"/>
            </a:solidFill>
            <a:prstDash val="sysDot"/>
            <a:miter/>
          </a:ln>
        </p:spPr>
      </p:pic>
      <p:pic>
        <p:nvPicPr>
          <p:cNvPr id="506" name="Picture 5" descr="map"/>
          <p:cNvPicPr/>
          <p:nvPr/>
        </p:nvPicPr>
        <p:blipFill>
          <a:blip r:embed="rId2"/>
          <a:stretch/>
        </p:blipFill>
        <p:spPr>
          <a:xfrm>
            <a:off x="4952880" y="3757680"/>
            <a:ext cx="3276720" cy="2622600"/>
          </a:xfrm>
          <a:prstGeom prst="rect">
            <a:avLst/>
          </a:prstGeom>
          <a:ln w="57240">
            <a:solidFill>
              <a:srgbClr val="efab1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ff"/>
                </a:solidFill>
                <a:latin typeface="Tahoma"/>
              </a:rPr>
              <a:t>Relative Locat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here a place is in relation to another place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Uses directional words to describe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ardinal and intermediate directions</a:t>
            </a:r>
            <a:endParaRPr b="0" lang="en-US" sz="24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509" name="Picture 7" descr="j0293746"/>
          <p:cNvPicPr/>
          <p:nvPr/>
        </p:nvPicPr>
        <p:blipFill>
          <a:blip r:embed="rId1"/>
          <a:stretch/>
        </p:blipFill>
        <p:spPr>
          <a:xfrm>
            <a:off x="4419720" y="1905120"/>
            <a:ext cx="43275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800000"/>
                </a:solidFill>
                <a:latin typeface="Tahoma"/>
              </a:rPr>
              <a:t>Theme 4: Movemen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The Mobility of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People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Goods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Ideas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How Places are linked to one another and the world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1440" y="192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Scaled Composites Airplanes in Flight"/>
          <p:cNvPicPr/>
          <p:nvPr/>
        </p:nvPicPr>
        <p:blipFill>
          <a:blip r:embed="rId1"/>
          <a:stretch/>
        </p:blipFill>
        <p:spPr>
          <a:xfrm>
            <a:off x="304920" y="380880"/>
            <a:ext cx="1600200" cy="29257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514" name="Picture 13" descr="Overview of Railroad Yard"/>
          <p:cNvPicPr/>
          <p:nvPr/>
        </p:nvPicPr>
        <p:blipFill>
          <a:blip r:embed="rId2"/>
          <a:stretch/>
        </p:blipFill>
        <p:spPr>
          <a:xfrm>
            <a:off x="2209680" y="3551400"/>
            <a:ext cx="1932120" cy="29257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50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DEFINITION OF GEOGRAPHY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Calisto MT"/>
              </a:rPr>
              <a:t>ge·og·ra·phy</a:t>
            </a: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Calisto MT"/>
              </a:rPr>
              <a:t>1</a:t>
            </a:r>
            <a:r>
              <a:rPr b="0" lang="en-US" sz="4000" spc="-1" strike="noStrike">
                <a:solidFill>
                  <a:srgbClr val="990000"/>
                </a:solidFill>
                <a:latin typeface="Calisto MT"/>
              </a:rPr>
              <a:t> </a:t>
            </a:r>
            <a:r>
              <a:rPr b="1" lang="en-US" sz="4000" spc="-1" strike="noStrike">
                <a:solidFill>
                  <a:srgbClr val="990000"/>
                </a:solidFill>
                <a:latin typeface="Calisto MT"/>
              </a:rPr>
              <a:t>:</a:t>
            </a:r>
            <a:r>
              <a:rPr b="0" lang="en-US" sz="4000" spc="-1" strike="noStrike">
                <a:solidFill>
                  <a:srgbClr val="990000"/>
                </a:solidFill>
                <a:latin typeface="Calisto MT"/>
              </a:rPr>
              <a:t> </a:t>
            </a:r>
            <a:r>
              <a:rPr b="1" lang="en-US" sz="4000" spc="-1" strike="noStrike">
                <a:solidFill>
                  <a:srgbClr val="990000"/>
                </a:solidFill>
                <a:latin typeface="Calisto MT"/>
              </a:rPr>
              <a:t># </a:t>
            </a:r>
            <a:r>
              <a:rPr b="1" lang="en-US" sz="2400" spc="-1" strike="noStrike">
                <a:solidFill>
                  <a:srgbClr val="990000"/>
                </a:solidFill>
                <a:latin typeface="Calisto MT"/>
              </a:rPr>
              <a:t> The study of the earth and its features and of the distribution of life on the earth, including human life and the effects of human activity.</a:t>
            </a:r>
            <a:endParaRPr b="0" lang="en-US" sz="24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Calisto MT"/>
              </a:rPr>
              <a:t># The physical characteristics, especially the surface features, of an area.</a:t>
            </a:r>
            <a:br>
              <a:rPr sz="4000"/>
            </a:br>
            <a:endParaRPr b="0" lang="en-US" sz="2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56" name="Slide Number Placeholder 5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58D2D-7D67-411E-9985-984DE157650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5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BE977-0927-4F6F-9B57-2429B72E19C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IN PLAIN ENGLISH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listo MT"/>
              </a:rPr>
              <a:t>Geography is the study of the earth and everything on it.</a:t>
            </a:r>
            <a:endParaRPr b="0" lang="en-US" sz="4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5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38574-586B-4B05-99A9-C0E39A24E5A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5 THEMES OF GEOGRAPHY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462" name="Picture 6" descr="mp00640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048120"/>
            <a:ext cx="1905120" cy="1898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REGION GRAPHIC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54400" y="5203800"/>
            <a:ext cx="2217600" cy="16542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hydroelec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757680" y="2819520"/>
            <a:ext cx="1628640" cy="17906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9" descr="forest"/>
          <p:cNvPicPr/>
          <p:nvPr/>
        </p:nvPicPr>
        <p:blipFill>
          <a:blip r:embed="rId7"/>
          <a:stretch/>
        </p:blipFill>
        <p:spPr>
          <a:xfrm>
            <a:off x="5486400" y="5029200"/>
            <a:ext cx="1752480" cy="14889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0" descr="Transport"/>
          <p:cNvPicPr/>
          <p:nvPr/>
        </p:nvPicPr>
        <p:blipFill>
          <a:blip r:embed="rId8"/>
          <a:stretch/>
        </p:blipFill>
        <p:spPr>
          <a:xfrm>
            <a:off x="6858000" y="3144960"/>
            <a:ext cx="1908000" cy="1503360"/>
          </a:xfrm>
          <a:prstGeom prst="rect">
            <a:avLst/>
          </a:prstGeom>
          <a:ln w="0">
            <a:noFill/>
          </a:ln>
        </p:spPr>
      </p:pic>
      <p:sp>
        <p:nvSpPr>
          <p:cNvPr id="467" name="WordArt 11"/>
          <p:cNvSpPr txBox="1"/>
          <p:nvPr/>
        </p:nvSpPr>
        <p:spPr>
          <a:xfrm>
            <a:off x="609480" y="2666880"/>
            <a:ext cx="138132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PLA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68" name="WordArt 12"/>
          <p:cNvSpPr txBox="1"/>
          <p:nvPr/>
        </p:nvSpPr>
        <p:spPr>
          <a:xfrm>
            <a:off x="5181480" y="4648320"/>
            <a:ext cx="1381320" cy="97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LO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69" name="WordArt 13"/>
          <p:cNvSpPr txBox="1"/>
          <p:nvPr/>
        </p:nvSpPr>
        <p:spPr>
          <a:xfrm>
            <a:off x="7238880" y="2451240"/>
            <a:ext cx="10000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MOV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70" name="WordArt 14"/>
          <p:cNvSpPr txBox="1"/>
          <p:nvPr/>
        </p:nvSpPr>
        <p:spPr>
          <a:xfrm>
            <a:off x="2647800" y="2590920"/>
            <a:ext cx="384840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Human-Environment Interac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71" name="WordArt 15"/>
          <p:cNvSpPr txBox="1"/>
          <p:nvPr/>
        </p:nvSpPr>
        <p:spPr>
          <a:xfrm>
            <a:off x="2057400" y="4648320"/>
            <a:ext cx="1380960" cy="97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REG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5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F2389-336B-48B8-A37D-E32C581EBE4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ERE DID THE 5 THEMES COME FROM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e 5 Themes of Geography originated by the National Geographic Society to fulfill a need for geographers (people who study the earth and everything on it) categorize everything they learn.  These 5 places are easy to remember.  Just say the word “PRILM”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75" name="Picture 4" descr="globe5"/>
          <p:cNvPicPr/>
          <p:nvPr/>
        </p:nvPicPr>
        <p:blipFill>
          <a:blip r:embed="rId1"/>
          <a:stretch/>
        </p:blipFill>
        <p:spPr>
          <a:xfrm>
            <a:off x="6477120" y="5029200"/>
            <a:ext cx="11430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5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21786-E202-4F96-B1B5-C07A3E50F063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AT IS “PRILM”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10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RILM is a mnemonic device that can be used to help remember what the 5 Themes of Geography are.  Simply put, take the first letter of each Theme to create the word PRILM.  They are: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lnSpc>
                <a:spcPct val="7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alisto MT"/>
              </a:rPr>
              <a:t>P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lac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lnSpc>
                <a:spcPct val="7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alisto MT"/>
              </a:rPr>
              <a:t>R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egio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lnSpc>
                <a:spcPct val="7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alisto MT"/>
              </a:rPr>
              <a:t>I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nteraction (Human-Environment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lnSpc>
                <a:spcPct val="7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alisto MT"/>
              </a:rPr>
              <a:t>L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ocatio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lnSpc>
                <a:spcPct val="7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alisto MT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ovemen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79" name="Picture 4" descr="REGION GRAPHIC"/>
          <p:cNvPicPr/>
          <p:nvPr/>
        </p:nvPicPr>
        <p:blipFill>
          <a:blip r:embed="rId1"/>
          <a:stretch/>
        </p:blipFill>
        <p:spPr>
          <a:xfrm>
            <a:off x="2209680" y="5257800"/>
            <a:ext cx="1532160" cy="1143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forest"/>
          <p:cNvPicPr/>
          <p:nvPr/>
        </p:nvPicPr>
        <p:blipFill>
          <a:blip r:embed="rId2"/>
          <a:stretch/>
        </p:blipFill>
        <p:spPr>
          <a:xfrm>
            <a:off x="5715000" y="5257800"/>
            <a:ext cx="1333440" cy="11336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6" descr="hydroelec"/>
          <p:cNvPicPr/>
          <p:nvPr/>
        </p:nvPicPr>
        <p:blipFill>
          <a:blip r:embed="rId3"/>
          <a:stretch/>
        </p:blipFill>
        <p:spPr>
          <a:xfrm>
            <a:off x="4016520" y="5181480"/>
            <a:ext cx="1109520" cy="12193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7" descr="mp00640_"/>
          <p:cNvPicPr/>
          <p:nvPr/>
        </p:nvPicPr>
        <p:blipFill>
          <a:blip r:embed="rId4"/>
          <a:stretch/>
        </p:blipFill>
        <p:spPr>
          <a:xfrm>
            <a:off x="533520" y="52578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Transport"/>
          <p:cNvPicPr/>
          <p:nvPr/>
        </p:nvPicPr>
        <p:blipFill>
          <a:blip r:embed="rId5"/>
          <a:stretch/>
        </p:blipFill>
        <p:spPr>
          <a:xfrm>
            <a:off x="7467480" y="5257800"/>
            <a:ext cx="1451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993366"/>
                </a:solidFill>
                <a:latin typeface="Tahoma"/>
              </a:rPr>
              <a:t>Theme 1:  Place</a:t>
            </a:r>
            <a:br>
              <a:rPr sz="5200"/>
            </a:br>
            <a:r>
              <a:rPr b="0" lang="en-US" sz="5200" spc="-1" strike="noStrike">
                <a:solidFill>
                  <a:srgbClr val="993366"/>
                </a:solidFill>
                <a:latin typeface="Tahoma"/>
              </a:rPr>
              <a:t>Physical Characteristic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86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ahoma"/>
              </a:rPr>
              <a:t>Land Features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ahoma"/>
              </a:rPr>
              <a:t>Mountains, plains, and plateaus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ahoma"/>
              </a:rPr>
              <a:t>Climate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ahoma"/>
              </a:rPr>
              <a:t>Bodies of Water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1440" y="24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8" descr="Mountains Reflect in a Lake"/>
          <p:cNvPicPr/>
          <p:nvPr/>
        </p:nvPicPr>
        <p:blipFill>
          <a:blip r:embed="rId1"/>
          <a:stretch/>
        </p:blipFill>
        <p:spPr>
          <a:xfrm>
            <a:off x="1219320" y="4572000"/>
            <a:ext cx="2925720" cy="1954080"/>
          </a:xfrm>
          <a:prstGeom prst="rect">
            <a:avLst/>
          </a:prstGeom>
          <a:ln w="57240">
            <a:solidFill>
              <a:srgbClr val="993366"/>
            </a:solidFill>
            <a:miter/>
          </a:ln>
        </p:spPr>
      </p:pic>
      <p:sp>
        <p:nvSpPr>
          <p:cNvPr id="488" name="Rectangle 10"/>
          <p:cNvSpPr/>
          <p:nvPr/>
        </p:nvSpPr>
        <p:spPr>
          <a:xfrm>
            <a:off x="1440" y="192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5" descr="grcanyon2"/>
          <p:cNvPicPr/>
          <p:nvPr/>
        </p:nvPicPr>
        <p:blipFill>
          <a:blip r:embed="rId2"/>
          <a:stretch/>
        </p:blipFill>
        <p:spPr>
          <a:xfrm>
            <a:off x="4724280" y="2133720"/>
            <a:ext cx="3962520" cy="26924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996633"/>
                </a:solidFill>
                <a:latin typeface="Tahoma"/>
              </a:rPr>
              <a:t>Theme 2:  Reg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6553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What Places Have in Commo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Political Regio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Landform Regio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Agricultural Regio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Cultural Regio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92" name="Picture 4" descr="Zermatt"/>
          <p:cNvPicPr/>
          <p:nvPr/>
        </p:nvPicPr>
        <p:blipFill>
          <a:blip r:embed="rId1"/>
          <a:stretch/>
        </p:blipFill>
        <p:spPr>
          <a:xfrm>
            <a:off x="4952880" y="3200400"/>
            <a:ext cx="3886200" cy="296064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ahoma"/>
              </a:rPr>
              <a:t>Theme 3:  Human Environment Interactio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Tahoma"/>
              </a:rPr>
              <a:t>How People Interact With Their Environmen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Tahoma"/>
              </a:rPr>
              <a:t>People . . 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Tahoma"/>
              </a:rPr>
              <a:t>Adapt</a:t>
            </a:r>
            <a:r>
              <a:rPr b="1" lang="en-US" sz="2000" spc="-1" strike="noStrike">
                <a:solidFill>
                  <a:srgbClr val="008080"/>
                </a:solidFill>
                <a:latin typeface="Tahoma"/>
              </a:rPr>
              <a:t> to Their Environmen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Tahoma"/>
              </a:rPr>
              <a:t>Modify</a:t>
            </a:r>
            <a:r>
              <a:rPr b="1" lang="en-US" sz="2000" spc="-1" strike="noStrike">
                <a:solidFill>
                  <a:srgbClr val="008080"/>
                </a:solidFill>
                <a:latin typeface="Tahoma"/>
              </a:rPr>
              <a:t> Their Environmen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Tahoma"/>
              </a:rPr>
              <a:t>Depend</a:t>
            </a:r>
            <a:r>
              <a:rPr b="1" lang="en-US" sz="2000" spc="-1" strike="noStrike">
                <a:solidFill>
                  <a:srgbClr val="008080"/>
                </a:solidFill>
                <a:latin typeface="Tahoma"/>
              </a:rPr>
              <a:t> on Their Environmen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95" name="Picture 4" descr="BAG0017"/>
          <p:cNvPicPr/>
          <p:nvPr/>
        </p:nvPicPr>
        <p:blipFill>
          <a:blip r:embed="rId1"/>
          <a:stretch/>
        </p:blipFill>
        <p:spPr>
          <a:xfrm>
            <a:off x="5105520" y="2514600"/>
            <a:ext cx="3314520" cy="220968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sp>
        <p:nvSpPr>
          <p:cNvPr id="496" name="Rectangle 5"/>
          <p:cNvSpPr/>
          <p:nvPr/>
        </p:nvSpPr>
        <p:spPr>
          <a:xfrm>
            <a:off x="4438800" y="6324480"/>
            <a:ext cx="471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http://www.fotosearch.com/comp/corbis/DGT119/BAG001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10:47:59Z</dcterms:created>
  <dc:creator>IT User</dc:creator>
  <dc:description/>
  <dc:language>en-US</dc:language>
  <cp:lastModifiedBy>IT User</cp:lastModifiedBy>
  <dcterms:modified xsi:type="dcterms:W3CDTF">2010-10-12T16:13:47Z</dcterms:modified>
  <cp:revision>9</cp:revision>
  <dc:subject/>
  <dc:title>5 Themes of Geography</dc:title>
</cp:coreProperties>
</file>